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503-6704-4FF4-92E6-6B10B0CC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865-3861-4D10-B8BF-CEA8858B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AB494-F097-46AE-A7D2-2C815A6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8BFD-2EA3-4528-9985-06FF1856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5E89A-4566-4932-A119-102D2C41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07009-4B01-414A-8E62-7C137547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1D8FF-CF1D-4EEC-9FBB-B2CF90C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2057C-0A13-402E-81B1-9ABE32E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8CDCA-7228-4689-B55F-0587912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10119-9786-47EA-8D55-E83CF7A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5A3F3-4726-4964-97BE-F1EFB4E4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795-8EB1-4997-9939-35E57BFF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AE7-1943-47F5-8C31-5B64954D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33F-D5C4-4D67-BDF8-5F94DA8B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0D2B-ACD2-4AAB-91FB-06BC68B5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37F9-9929-466E-B683-5E12084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519-FC65-41F6-AA79-99139C60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E82-BA49-4CBF-90C6-493E542F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0DE6-FF19-4B23-940C-5A29351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0F0A-CC18-4387-B66A-73FBF320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88A-DF53-42A9-9F3B-435392B2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551-9EF9-4780-813B-702EB72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5C5-0BA5-46D7-8006-8090104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743-7F74-4838-97E2-182AE801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1F31-0317-451F-81E6-9649C61C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0A52-3C6F-4E6B-9A10-6AE39D63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ECBD-B9EA-4479-B192-A320AB9E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ECF8-C427-41E7-A52C-0080ACBF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58F0-20FE-436A-AC4C-F05E6440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86DB5-E5B6-4FBC-90FA-FFE8A254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DAA5-E43E-4ABF-A270-2546F7A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254-7D1B-4A74-A3F5-5CC2E7A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EB51-F44F-48C4-9EA9-F6231413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E96C-3728-4C5E-B941-7E56929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0C70-BDFD-40BF-B90A-4CC4A685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53AF-3649-47E5-B0C8-5D64223B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E015-E94B-4185-B724-D12769B8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102C-B2F1-4C89-B7E9-B24C3646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6B59-3DD8-493C-A90E-9F533F27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3460-D664-4C72-917B-5D5D04A0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DD475-21B1-496B-9A20-DA0A251B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1184-EEE4-46CF-80BA-F19BC54A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8E1D-13CB-4429-B313-188FC2BB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157E-5C8C-40D6-A643-BC4DE0B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CDB9-998C-4FBF-A4AA-803E898D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35D8-D949-4A72-8749-2419B7F4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ED7A-AB4A-49EF-9460-39C3A3B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8D08-7446-4B24-8CCC-C36573C5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C266-26FF-43AD-809E-F5B9D4A2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2623-0CE7-4500-ABEE-9A2FA901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247D0-2A65-40EB-B637-5D4E8241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9593-E21F-41A8-B01D-006B538E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3386-319A-4E2A-A59B-194AAE47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998-9707-4F3F-971C-0E802E2F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E399-DE87-4D86-A517-84C7EC49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AAD9-2D01-4F7C-8FFA-72AF2DF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D56C5-8DAF-40E6-8CA2-24E00B2B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96F69-0DC5-433E-A312-58C56147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EA89-7B68-459E-88E9-A257D1D2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B64A-5EA8-4C28-8491-5B33F0F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18C4B-4672-4B10-AB20-FB144B4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9777-AA87-4180-810A-358337E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31E4-FAA6-4174-B681-66ABD7BB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76944-9321-4F1E-B255-8BD5E7BF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A4E1-C55F-471B-9873-322081BC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4964-B833-4FF2-8A5A-3507AB3F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F4988-D5F5-4786-8798-E95F663B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29F21-4D67-4B9F-A0DB-436EBE9A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D8E9-9C14-4BE4-A967-93085492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7697F-10BD-4564-96E1-ACAA1F4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AD1AE-6CD5-4C1B-A986-D5C50BCB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417AA-E0E0-4676-8478-4C98FD45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ACC3-F1CF-400B-939A-77E51D6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44D5C-481E-4B8F-B932-F677756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DE4B-ECB5-48EF-AB98-AE840367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168-FD48-44EE-8375-63995724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5BCA-CD55-4E29-BDE4-5E5915A9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84334-A05C-4A13-BFE7-7B1505A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C4E6-BB2C-4E9C-93D3-374F651A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994A-1316-4E89-8D6A-76A8DE18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AC9EA-19DB-495A-B21D-41224CF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D931-56A1-441B-B6CD-ACADE61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2D74-82E3-4BBB-9FB9-312535A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E1195-17B1-480C-ABE4-88A7F867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BFFAC-8E58-4D1F-84D1-DC73B92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D57E-DFA3-4926-A61A-B8A70CB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0DA-3E69-43F8-A39E-D93BD7C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7FCA-3104-4970-AD6B-3D8B988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134A-021C-496B-9D4D-9A8F7012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BB1F-4808-4B0C-9438-D83BD851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FD80B-34BB-4FE2-8D35-9215ED5D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C139D-7BBB-48CC-A504-EC59C11E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58B95-5DEE-4A1A-8579-F2D8F778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967FA-C16B-433E-9E28-9C6F24C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900C0-0F8C-4BC3-A1B1-73980CBD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A410F-D0EF-4D0E-8350-664B3FB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46374-48E1-4328-9944-1F0821EE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58D-46FC-4ED8-BCA1-8EF002C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A52D-8F0D-4157-A74F-EAE4B62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8A03A-62F1-47D9-8815-45FF199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B41C0-761A-44D1-B288-65BD5CC1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46196-C475-42FF-8453-F3A1A29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FAD25-743A-4873-AD0F-F7A18E85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A6DB-956F-4B9C-979A-A06027E5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DBB9-B5F7-4404-A6C6-5C1385C9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764E3-F6DE-49D1-983C-1B7CA35B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DD980-7BD1-4484-B5FB-5F941C4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9D798-8077-4BAD-A759-D24E80EE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889-D673-4B97-A7B5-7B8585E2846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7E0A-4366-483E-BB12-AB272E05A67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0435-1D59-44C4-A4BB-7D356F6BF25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9F8A-0EBA-4152-87BA-539178C53F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AB75-BAAC-4268-B970-E4D248E8369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27C9-3101-4B9D-A7B6-F35FA56C201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569-897B-4F93-A669-0D92B508960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1718-A14C-4DD9-BE66-B5F771F1F7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1B7-A8C3-47F4-8761-C9D77B836A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Español Cultur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www.mydish.co.uk/interface/members/237323/200972812568466-903966-384282-802476.jpg"/>
          <p:cNvPicPr/>
          <p:nvPr/>
        </p:nvPicPr>
        <p:blipFill>
          <a:blip r:embed="rId1"/>
          <a:stretch/>
        </p:blipFill>
        <p:spPr>
          <a:xfrm>
            <a:off x="0" y="0"/>
            <a:ext cx="881064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http://www.andrics.com/images/Paella1.jpg"/>
          <p:cNvPicPr/>
          <p:nvPr/>
        </p:nvPicPr>
        <p:blipFill>
          <a:blip r:embed="rId1"/>
          <a:stretch/>
        </p:blipFill>
        <p:spPr>
          <a:xfrm>
            <a:off x="63360" y="-136440"/>
            <a:ext cx="9048960" cy="80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Picture - vegetarian paella &#10;- spanish rice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685800" y="1143000"/>
            <a:ext cx="6993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Food. Spanish paella Royalty Free Stock Photo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http://z.about.com/d/spanishfood/1/0/c/7/-/-/tortilla-whole450x379.jpg"/>
          <p:cNvPicPr/>
          <p:nvPr/>
        </p:nvPicPr>
        <p:blipFill>
          <a:blip r:embed="rId1"/>
          <a:stretch/>
        </p:blipFill>
        <p:spPr>
          <a:xfrm>
            <a:off x="838080" y="304920"/>
            <a:ext cx="748044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http://farm3.static.flickr.com/2174/2342052637_9511dc2aac.jpg"/>
          <p:cNvPicPr/>
          <p:nvPr/>
        </p:nvPicPr>
        <p:blipFill>
          <a:blip r:embed="rId1"/>
          <a:stretch/>
        </p:blipFill>
        <p:spPr>
          <a:xfrm>
            <a:off x="380880" y="609480"/>
            <a:ext cx="4762800" cy="31626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http://static.ifood.tv/files/Tortilla_%20Espanola.jpg"/>
          <p:cNvPicPr/>
          <p:nvPr/>
        </p:nvPicPr>
        <p:blipFill>
          <a:blip r:embed="rId2"/>
          <a:stretch/>
        </p:blipFill>
        <p:spPr>
          <a:xfrm>
            <a:off x="3886200" y="3352680"/>
            <a:ext cx="463860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winewriter.files.wordpress.com/2008/10/flan.jpg"/>
          <p:cNvPicPr/>
          <p:nvPr/>
        </p:nvPicPr>
        <p:blipFill>
          <a:blip r:embed="rId1"/>
          <a:stretch/>
        </p:blipFill>
        <p:spPr>
          <a:xfrm>
            <a:off x="2438280" y="609480"/>
            <a:ext cx="41911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3:52:42Z</dcterms:created>
  <dc:creator> </dc:creator>
  <dc:description/>
  <dc:language>en-US</dc:language>
  <cp:lastModifiedBy> </cp:lastModifiedBy>
  <dcterms:modified xsi:type="dcterms:W3CDTF">2010-04-12T19:48:26Z</dcterms:modified>
  <cp:revision>2</cp:revision>
  <dc:subject/>
  <dc:title>Paella y Tortilla Espanola</dc:title>
</cp:coreProperties>
</file>